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B23-5CDE-489C-98EB-FB0E095F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615-6C92-4FCB-B93F-795EBE79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9E2-D875-426C-B8AE-FD898271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A17-766A-46ED-AC7A-129384AB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C408-2249-484D-8262-F617E7E0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A17D-95C4-4098-9712-196E5986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0E93-8F0C-432A-9C5F-064C7EEF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4CA8-79EA-45AC-88B1-18C5634E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A2A3-D508-4613-8FD9-21A98D9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948A-21C3-4C8B-B0FB-AC3B203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ED9A-790D-40CB-A14E-23562F5D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BB6-E860-4478-A565-A7D40C7D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C0F0-4F54-47F4-B1A1-80D215C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3D3A-A974-496A-A7EF-37409224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4CC6-9911-45F2-A91C-3C4F04E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DA50-B8E7-4084-AEB9-2BD66C33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4043-1EE6-4F5D-8B4E-837407E4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15C9-05EF-4B1E-9E9D-99810034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F083-909C-415B-898E-3985EF53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D6C8-1699-47F6-A8EB-E548A97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95A4-151E-4BD5-B4BB-F16BAEB7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690C-A423-4ABB-AC85-FA375A3B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B7B-C1F6-4B27-947A-E759958B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E929-3D23-4B0B-B8CA-0E530D8B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CF41-E732-42F8-8EBA-F301E32A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1B2A-179F-4D31-9F91-7831CE7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8C99-9578-4F3D-8BAB-675A686E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70CF-B8A5-4229-B013-FEE8E1B2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019E2-1208-4D03-AADF-E0A6FA83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B2D9-63E6-41E6-9CE0-52DF1B28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E88F-A487-4773-938D-1A971BED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04C6-171A-4847-90FF-BBADE9A3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8447-A873-439B-B1EE-DA511907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939-DDA6-4368-914F-8E17FCE4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8393-32ED-43B7-B604-72EDDDCD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E4DA-91A7-4C0C-8F71-27EDB72D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B8ECA-C743-4B1D-B6B1-1B9F0A9A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F87B-6D69-4117-A93D-2D4109A3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4C3B-DBCD-4A71-B0E8-0712ADC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4B39-1FF0-4A1C-9AF5-BBEF105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B208-B910-4CD6-870C-B222EDBF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1C00-3B7D-4456-9DFF-35141435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5BF34-0DCA-4340-9CEC-0DA4804A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069-5815-4973-863A-3BEAF8B5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135-B4CB-48EC-91FC-E138EA36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FC7-0B8F-4548-9254-C4CB574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B94-C384-4AB3-8554-4F3F80C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58A-570B-4457-9A9B-16C692F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E1B-CBFD-485D-8BAA-E13CAEC2D5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493E-5626-41E1-9BAA-FFEA18F1E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7"/>
          <p:cNvGrpSpPr/>
          <p:nvPr/>
        </p:nvGrpSpPr>
        <p:grpSpPr>
          <a:xfrm>
            <a:off x="0" y="152280"/>
            <a:ext cx="1784520" cy="1246320"/>
            <a:chOff x="0" y="152280"/>
            <a:chExt cx="1784520" cy="1246320"/>
          </a:xfrm>
        </p:grpSpPr>
        <p:sp>
          <p:nvSpPr>
            <p:cNvPr id="93" name="Freeform 8"/>
            <p:cNvSpPr/>
            <p:nvPr/>
          </p:nvSpPr>
          <p:spPr>
            <a:xfrm>
              <a:off x="30240" y="17604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"/>
            <p:cNvSpPr/>
            <p:nvPr/>
          </p:nvSpPr>
          <p:spPr>
            <a:xfrm>
              <a:off x="1614600" y="298440"/>
              <a:ext cx="112680" cy="20448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3760" y="60300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196920" y="657000"/>
              <a:ext cx="833400" cy="5936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762120" y="21888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1009800" y="122076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792360" y="338040"/>
              <a:ext cx="306360" cy="6080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1052640" y="311040"/>
              <a:ext cx="577800" cy="276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542880" y="474480"/>
              <a:ext cx="247680" cy="106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7"/>
            <p:cNvGrpSpPr/>
            <p:nvPr/>
          </p:nvGrpSpPr>
          <p:grpSpPr>
            <a:xfrm>
              <a:off x="0" y="152280"/>
              <a:ext cx="1784520" cy="1238400"/>
              <a:chOff x="0" y="152280"/>
              <a:chExt cx="1784520" cy="1238400"/>
            </a:xfrm>
          </p:grpSpPr>
          <p:grpSp>
            <p:nvGrpSpPr>
              <p:cNvPr id="103" name="Group 18"/>
              <p:cNvGrpSpPr/>
              <p:nvPr/>
            </p:nvGrpSpPr>
            <p:grpSpPr>
              <a:xfrm>
                <a:off x="784080" y="266400"/>
                <a:ext cx="870120" cy="1124280"/>
                <a:chOff x="784080" y="266400"/>
                <a:chExt cx="870120" cy="1124280"/>
              </a:xfrm>
            </p:grpSpPr>
            <p:sp>
              <p:nvSpPr>
                <p:cNvPr id="104" name="Freeform 19"/>
                <p:cNvSpPr/>
                <p:nvPr/>
              </p:nvSpPr>
              <p:spPr>
                <a:xfrm>
                  <a:off x="784080" y="306360"/>
                  <a:ext cx="249480" cy="13788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20"/>
                <p:cNvSpPr/>
                <p:nvPr/>
              </p:nvSpPr>
              <p:spPr>
                <a:xfrm>
                  <a:off x="1001880" y="1179360"/>
                  <a:ext cx="182520" cy="21132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1"/>
                <p:cNvSpPr/>
                <p:nvPr/>
              </p:nvSpPr>
              <p:spPr>
                <a:xfrm>
                  <a:off x="1585800" y="266400"/>
                  <a:ext cx="68400" cy="1857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22"/>
              <p:cNvSpPr/>
              <p:nvPr/>
            </p:nvSpPr>
            <p:spPr>
              <a:xfrm>
                <a:off x="112680" y="536400"/>
                <a:ext cx="944640" cy="3970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3"/>
              <p:cNvSpPr/>
              <p:nvPr/>
            </p:nvSpPr>
            <p:spPr>
              <a:xfrm>
                <a:off x="405000" y="780840"/>
                <a:ext cx="387360" cy="2350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4"/>
              <p:cNvSpPr/>
              <p:nvPr/>
            </p:nvSpPr>
            <p:spPr>
              <a:xfrm>
                <a:off x="888840" y="453960"/>
                <a:ext cx="169920" cy="37764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25"/>
              <p:cNvGrpSpPr/>
              <p:nvPr/>
            </p:nvGrpSpPr>
            <p:grpSpPr>
              <a:xfrm>
                <a:off x="0" y="152280"/>
                <a:ext cx="1784520" cy="1076400"/>
                <a:chOff x="0" y="152280"/>
                <a:chExt cx="1784520" cy="1076400"/>
              </a:xfrm>
            </p:grpSpPr>
            <p:sp>
              <p:nvSpPr>
                <p:cNvPr id="111" name="Freeform 26"/>
                <p:cNvSpPr/>
                <p:nvPr/>
              </p:nvSpPr>
              <p:spPr>
                <a:xfrm>
                  <a:off x="1054080" y="1038240"/>
                  <a:ext cx="119160" cy="13788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7"/>
                <p:cNvSpPr/>
                <p:nvPr/>
              </p:nvSpPr>
              <p:spPr>
                <a:xfrm>
                  <a:off x="0" y="529920"/>
                  <a:ext cx="1336680" cy="6987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8"/>
                <p:cNvSpPr/>
                <p:nvPr/>
              </p:nvSpPr>
              <p:spPr>
                <a:xfrm>
                  <a:off x="160200" y="596880"/>
                  <a:ext cx="127080" cy="2649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9"/>
                <p:cNvSpPr/>
                <p:nvPr/>
              </p:nvSpPr>
              <p:spPr>
                <a:xfrm>
                  <a:off x="704880" y="152280"/>
                  <a:ext cx="511200" cy="94284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909720" y="406080"/>
                  <a:ext cx="152280" cy="40032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512640" y="374400"/>
                  <a:ext cx="309600" cy="21456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1036800" y="228600"/>
                  <a:ext cx="747720" cy="33624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1130400" y="336240"/>
                  <a:ext cx="388800" cy="136800"/>
                </a:xfrm>
                <a:prstGeom prst="pi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5C81-A755-494C-970F-8EC2C1DB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0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1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C5E4-4254-4031-BFCE-62422E5F11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Limits Have To Do With Calculu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Unlimited Review of 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use your calculator for the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048120" y="2286000"/>
          <a:ext cx="2922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2922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gradFill rotWithShape="0">
            <a:gsLst>
              <a:gs pos="0">
                <a:srgbClr val="00b2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Evaluating Limits Numericall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looking at a graph’s table of data, we can determine the limit of the fun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’s look at Example 4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828800" y="3352680"/>
          <a:ext cx="4495680" cy="65592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795600"/>
                <a:gridCol w="685800"/>
                <a:gridCol w="609480"/>
                <a:gridCol w="762120"/>
                <a:gridCol w="533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.9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0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61"/>
          <p:cNvSpPr/>
          <p:nvPr/>
        </p:nvSpPr>
        <p:spPr>
          <a:xfrm>
            <a:off x="609480" y="42670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m the above data, estimate the value of the following lim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172200" y="4191120"/>
          <a:ext cx="175428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191120"/>
                    <a:ext cx="17542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990720" y="1143000"/>
          <a:ext cx="4495680" cy="65556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795240"/>
                <a:gridCol w="685800"/>
                <a:gridCol w="609840"/>
                <a:gridCol w="761760"/>
                <a:gridCol w="53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.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4.9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4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.0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219320" y="2133720"/>
          <a:ext cx="723888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23888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70960" cy="83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Properties of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2670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f c, k, R, S, U, and V are finite numbers and 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066680" y="1676520"/>
          <a:ext cx="62452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624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990720" y="2286000"/>
          <a:ext cx="6710400" cy="26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86000"/>
                    <a:ext cx="671040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914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Special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600200" y="1828800"/>
          <a:ext cx="5541840" cy="34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828800"/>
                    <a:ext cx="554184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7617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Rational Function Theor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81080" y="2590920"/>
            <a:ext cx="23623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ing the fact that…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267080" y="2286000"/>
          <a:ext cx="16002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002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6"/>
          <p:cNvSpPr/>
          <p:nvPr/>
        </p:nvSpPr>
        <p:spPr>
          <a:xfrm>
            <a:off x="129528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determine the limit of a quotient of polynomials (rational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828800" y="3124080"/>
          <a:ext cx="670572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124080"/>
                    <a:ext cx="670572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o not use your calcula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99960" y="14400"/>
          <a:ext cx="114480" cy="16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14400"/>
                    <a:ext cx="11448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99960" y="14400"/>
          <a:ext cx="114480" cy="16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960" y="14400"/>
                    <a:ext cx="11448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733920" y="1752480"/>
          <a:ext cx="1968480" cy="472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1752480"/>
                    <a:ext cx="19684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2286000" y="228600"/>
          <a:ext cx="355284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"/>
                    <a:ext cx="35528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048120" y="457200"/>
          <a:ext cx="28400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57200"/>
                    <a:ext cx="28400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5"/>
          <p:cNvSpPr/>
          <p:nvPr/>
        </p:nvSpPr>
        <p:spPr>
          <a:xfrm>
            <a:off x="243828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x0010__x0010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5900760" cy="770040"/>
          </a:xfrm>
          <a:prstGeom prst="rect">
            <a:avLst/>
          </a:prstGeom>
          <a:gradFill rotWithShape="0">
            <a:gsLst>
              <a:gs pos="0">
                <a:srgbClr val="fff8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800"/>
                </a:solidFill>
                <a:latin typeface="Comic Sans MS"/>
              </a:rPr>
              <a:t>Definition of a Lim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18800" y="1828440"/>
            <a:ext cx="725796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implest way to understand a limit of a function is by looking at it graphica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we’re looking at this func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see what its graph looks like and what happens as x approaches 2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76720" y="3581280"/>
          <a:ext cx="175248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581280"/>
                    <a:ext cx="17524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2X-1"/>
          <p:cNvPicPr/>
          <p:nvPr/>
        </p:nvPicPr>
        <p:blipFill>
          <a:blip r:embed="rId1"/>
          <a:stretch/>
        </p:blipFill>
        <p:spPr>
          <a:xfrm>
            <a:off x="2438280" y="914400"/>
            <a:ext cx="4191120" cy="26226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4724280" y="23623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114800" y="1371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6629400" y="220968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990720" y="3886200"/>
            <a:ext cx="7238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appears as the x-coordinates get closer and closer to 2, the y-coordinates get closer and closer to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say that the limit of this function is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A limit is the value a function, f(x), approaches as the variable within that                         function gets nearer and nearer to a particular value, x</a:t>
            </a:r>
            <a:r>
              <a:rPr b="1" lang="en-US" sz="1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191120" y="1905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4876920" y="1981080"/>
            <a:ext cx="75960" cy="152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434340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4800600" y="2362320"/>
            <a:ext cx="22860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 flipH="1">
            <a:off x="624816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 flipV="1">
            <a:off x="43434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8584E-006 L -0.12916 4.38584E-006 E">
                                      <p:cBhvr>
                                        <p:cTn id="4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8584E-006 L 0.0875 4.38584E-006 E">
                                      <p:cBhvr>
                                        <p:cTn id="44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60791E-006 L 0 0.06663 E">
                                      <p:cBhvr>
                                        <p:cTn id="4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16031E-007 L 0 -0.08327 E">
                                      <p:cBhvr>
                                        <p:cTn id="4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37160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Evaluating Limits Analyticall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times looking at a graph is not possible, so you need to have other ways to find a lim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can evaluate limits analytically using algebraic techniques. These a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601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Factoring (simplifying the express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601"/>
              </a:spcBef>
              <a:buClr>
                <a:srgbClr val="ab8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8dff"/>
                </a:solidFill>
                <a:latin typeface="Comic Sans MS"/>
              </a:rPr>
              <a:t>Rationalizing the numerator or denominator (conjuga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5715000" cy="76176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xample 1: Evaluate the following limit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666880" y="2438280"/>
          <a:ext cx="25146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438280"/>
                    <a:ext cx="2514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13"/>
          <p:cNvSpPr/>
          <p:nvPr/>
        </p:nvSpPr>
        <p:spPr>
          <a:xfrm>
            <a:off x="1447920" y="32004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ice that you can substitute x = 2 into the function to ge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4 *2 + 9 = 5.  Therefore, the limit of this function as x approaches 2 is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143000" y="4419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his 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048120" y="4876920"/>
          <a:ext cx="2170080" cy="10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876920"/>
                    <a:ext cx="21700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981080" y="533520"/>
          <a:ext cx="4343400" cy="36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4343400" cy="36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5"/>
          <p:cNvSpPr/>
          <p:nvPr/>
        </p:nvSpPr>
        <p:spPr>
          <a:xfrm>
            <a:off x="1905120" y="48006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, if all limits were this easy, you would have worked with them in Algebra I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4953240" cy="76212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Fac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times substitution just doesn’t work.  Let’s look at Example 2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971800" y="2438280"/>
          <a:ext cx="27432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438280"/>
                    <a:ext cx="27432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5"/>
          <p:cNvSpPr/>
          <p:nvPr/>
        </p:nvSpPr>
        <p:spPr>
          <a:xfrm>
            <a:off x="1371600" y="3352680"/>
            <a:ext cx="6400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tried using substitution, the result would be 0/0. The technical term for a result of 0/0 is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determina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which means that you cannot determine the limit using this metho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can we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y do what the title of this slide says: Factor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0" y="5486400"/>
          <a:ext cx="533412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486400"/>
                    <a:ext cx="53341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gradFill rotWithShape="0">
            <a:gsLst>
              <a:gs pos="0">
                <a:srgbClr val="ab8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sing Conjug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ast limit evaluation method attacks the radical expression in limi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kes applying the conjugate method rather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evaluate Example 3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0"/>
          <a:ext cx="91440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276720" y="5181480"/>
          <a:ext cx="281916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181480"/>
                    <a:ext cx="281916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6"/>
          <p:cNvSpPr/>
          <p:nvPr/>
        </p:nvSpPr>
        <p:spPr>
          <a:xfrm>
            <a:off x="457200" y="685800"/>
            <a:ext cx="6095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tried substitution, it will result in the indeterminate answer 0/0, and factoring isn’t very help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valuate this limit, multiply the fraction by the conjugate of the radical expression.  But remember you need to multiply by 1, so you must multiply by the conjugate/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’s look at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057400" y="3276720"/>
          <a:ext cx="6477120" cy="30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6720"/>
                    <a:ext cx="6477120" cy="30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2:38:45Z</dcterms:created>
  <dc:creator>Kathy Biga</dc:creator>
  <dc:description/>
  <dc:language>en-US</dc:language>
  <cp:lastModifiedBy>SHS</cp:lastModifiedBy>
  <cp:lastPrinted>2011-06-01T13:14:27Z</cp:lastPrinted>
  <dcterms:modified xsi:type="dcterms:W3CDTF">2011-06-20T12:34:27Z</dcterms:modified>
  <cp:revision>57</cp:revision>
  <dc:subject/>
  <dc:title>What’s Limits Have To Do With Calculus</dc:title>
</cp:coreProperties>
</file>